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324480" y="6400800"/>
            <a:ext cx="252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© 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BB2E-474B-49DF-A4DC-7EAB207F3C20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3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ption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3320" y="2057400"/>
            <a:ext cx="297252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b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7480" y="4570560"/>
            <a:ext cx="2279160" cy="1634760"/>
            <a:chOff x="1527480" y="4570560"/>
            <a:chExt cx="2279160" cy="1634760"/>
          </a:xfrm>
        </p:grpSpPr>
        <p:sp>
          <p:nvSpPr>
            <p:cNvPr id="116" name=""/>
            <p:cNvSpPr/>
            <p:nvPr/>
          </p:nvSpPr>
          <p:spPr>
            <a:xfrm>
              <a:off x="2440080" y="480060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7480" y="5562720"/>
              <a:ext cx="183132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ff"/>
                  </a:solidFill>
                  <a:latin typeface="Arial"/>
                </a:rPr>
                <a:t>Entitie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19" idx="2"/>
              <a:endCxn id="117" idx="0"/>
            </p:cNvCxnSpPr>
            <p:nvPr/>
          </p:nvCxnSpPr>
          <p:spPr>
            <a:xfrm flipV="1" rot="10800000">
              <a:off x="2442600" y="4570200"/>
              <a:ext cx="1080" cy="9784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</p:grpSp>
      <p:grpSp>
        <p:nvGrpSpPr>
          <p:cNvPr id="120" name=""/>
          <p:cNvGrpSpPr/>
          <p:nvPr/>
        </p:nvGrpSpPr>
        <p:grpSpPr>
          <a:xfrm>
            <a:off x="1310400" y="3733920"/>
            <a:ext cx="4377600" cy="794880"/>
            <a:chOff x="1310400" y="3733920"/>
            <a:chExt cx="4377600" cy="794880"/>
          </a:xfrm>
        </p:grpSpPr>
        <p:sp>
          <p:nvSpPr>
            <p:cNvPr id="119" name=""/>
            <p:cNvSpPr/>
            <p:nvPr/>
          </p:nvSpPr>
          <p:spPr>
            <a:xfrm>
              <a:off x="1310400" y="3886200"/>
              <a:ext cx="226548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BASE-CC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1"/>
              <a:endCxn id="119" idx="3"/>
            </p:cNvCxnSpPr>
            <p:nvPr/>
          </p:nvCxnSpPr>
          <p:spPr>
            <a:xfrm rot="10800000">
              <a:off x="3604320" y="4220280"/>
              <a:ext cx="2083680" cy="108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3" name=""/>
            <p:cNvSpPr/>
            <p:nvPr/>
          </p:nvSpPr>
          <p:spPr>
            <a:xfrm>
              <a:off x="3888000" y="37339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718240" y="2741400"/>
            <a:ext cx="2584080" cy="1787400"/>
            <a:chOff x="5718240" y="2741400"/>
            <a:chExt cx="2584080" cy="1787400"/>
          </a:xfrm>
        </p:grpSpPr>
        <p:sp>
          <p:nvSpPr>
            <p:cNvPr id="122" name=""/>
            <p:cNvSpPr/>
            <p:nvPr/>
          </p:nvSpPr>
          <p:spPr>
            <a:xfrm>
              <a:off x="5718240" y="3886200"/>
              <a:ext cx="2543040" cy="642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Completed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5" name=""/>
            <p:cNvCxnSpPr>
              <a:stCxn id="114" idx="2"/>
              <a:endCxn id="122" idx="0"/>
            </p:cNvCxnSpPr>
            <p:nvPr/>
          </p:nvCxnSpPr>
          <p:spPr>
            <a:xfrm flipV="1" rot="10800000">
              <a:off x="6989040" y="2741400"/>
              <a:ext cx="1080" cy="1130760"/>
            </a:xfrm>
            <a:prstGeom prst="bentConnector2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26" name=""/>
            <p:cNvSpPr/>
            <p:nvPr/>
          </p:nvSpPr>
          <p:spPr>
            <a:xfrm>
              <a:off x="6935760" y="304812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ri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62120" y="2971800"/>
            <a:ext cx="1447560" cy="457200"/>
          </a:xfrm>
          <a:prstGeom prst="wedgeRoundRectCallout">
            <a:avLst>
              <a:gd name="adj1" fmla="val 80263"/>
              <a:gd name="adj2" fmla="val 142708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181480"/>
            <a:ext cx="2362320" cy="457200"/>
          </a:xfrm>
          <a:prstGeom prst="wedgeRoundRectCallout">
            <a:avLst>
              <a:gd name="adj1" fmla="val 41129"/>
              <a:gd name="adj2" fmla="val -182291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905120"/>
            <a:ext cx="3733920" cy="457200"/>
          </a:xfrm>
          <a:prstGeom prst="wedgeRoundRectCallout">
            <a:avLst>
              <a:gd name="adj1" fmla="val 78740"/>
              <a:gd name="adj2" fmla="val 109375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53 + CC123 + CC1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095880"/>
            <a:ext cx="1295280" cy="457200"/>
          </a:xfrm>
          <a:prstGeom prst="wedgeRoundRectCallout">
            <a:avLst>
              <a:gd name="adj1" fmla="val -109314"/>
              <a:gd name="adj2" fmla="val -60069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C Combinat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mble as needed from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omple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by a list of BASE-CC nu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entity can be repeatedly included at multiple levels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nn diagram nes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uge number of possible combination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Why so complex?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alid Subs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ompleted CC simply defines a subset of the LPM that is logically valid to instant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usefu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bset need not be (that) meaning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PM/5 is large and comp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ff"/>
                </a:solidFill>
                <a:latin typeface="Times New Roman"/>
              </a:rPr>
              <a:t>many valid subsets are possibl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ard Boundari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verall scope of a particular translator corresponds to a particular CC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translat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data within that valid sub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entity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every (non OPTIONAL) </a:t>
            </a:r>
            <a:r>
              <a:rPr b="1" lang="en-GB" sz="2400" spc="-1" strike="noStrike">
                <a:solidFill>
                  <a:srgbClr val="00ffff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y translator provide user control for exporting or importing lesser valid sc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are when scoping a translat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4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49453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4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5705640"/>
            <a:ext cx="274320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96"/>
              <a:gd name="adj5" fmla="val -253282"/>
              <a:gd name="adj6" fmla="val -5172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pplication ful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S data wil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satisfy any subset CC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657600"/>
            <a:ext cx="3200400" cy="1752480"/>
          </a:xfrm>
          <a:prstGeom prst="cloudCallout">
            <a:avLst>
              <a:gd name="adj1" fmla="val -23462"/>
              <a:gd name="adj2" fmla="val 3713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56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763"/>
                <a:gd name="adj5" fmla="val 51569"/>
                <a:gd name="adj6" fmla="val -515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59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ex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486400"/>
            <a:ext cx="2514600" cy="825480"/>
          </a:xfrm>
          <a:prstGeom prst="borderCallout2">
            <a:avLst>
              <a:gd name="adj1" fmla="val 18750"/>
              <a:gd name="adj2" fmla="val -8333"/>
              <a:gd name="adj3" fmla="val 13282"/>
              <a:gd name="adj4" fmla="val -14268"/>
              <a:gd name="adj5" fmla="val -61462"/>
              <a:gd name="adj6" fmla="val -5403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 populated information sc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1676520"/>
            <a:ext cx="266724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513"/>
              <a:gd name="adj5" fmla="val 451407"/>
              <a:gd name="adj6" fmla="val -2886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pplication only partly 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full CC scope of the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set CC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e fully populated with CIS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ex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71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699"/>
                <a:gd name="adj5" fmla="val 50509"/>
                <a:gd name="adj6" fmla="val -5100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7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troduce the concept of Conformance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s documented in the CIS/2 Beta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1981080"/>
            <a:ext cx="3809880" cy="3810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048120"/>
            <a:ext cx="2895840" cy="28954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66680" y="2560680"/>
            <a:ext cx="7239240" cy="3002040"/>
            <a:chOff x="1066680" y="2560680"/>
            <a:chExt cx="7239240" cy="3002040"/>
          </a:xfrm>
        </p:grpSpPr>
        <p:sp>
          <p:nvSpPr>
            <p:cNvPr id="180" name=""/>
            <p:cNvSpPr/>
            <p:nvPr/>
          </p:nvSpPr>
          <p:spPr>
            <a:xfrm>
              <a:off x="1066680" y="2666880"/>
              <a:ext cx="3657600" cy="2895840"/>
            </a:xfrm>
            <a:prstGeom prst="cloudCallout">
              <a:avLst>
                <a:gd name="adj1" fmla="val -26777"/>
                <a:gd name="adj2" fmla="val 42212"/>
              </a:avLst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91320" y="2560680"/>
              <a:ext cx="2514600" cy="1191240"/>
            </a:xfrm>
            <a:prstGeom prst="borderCallout2">
              <a:avLst>
                <a:gd name="adj1" fmla="val 18750"/>
                <a:gd name="adj2" fmla="val -8333"/>
                <a:gd name="adj3" fmla="val 9328"/>
                <a:gd name="adj4" fmla="val -13888"/>
                <a:gd name="adj5" fmla="val 49453"/>
                <a:gd name="adj6" fmla="val -52013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ull information scope of the 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83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5791320" y="5791320"/>
            <a:ext cx="281916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26745"/>
              <a:gd name="adj5" fmla="val -37870"/>
              <a:gd name="adj6" fmla="val -51685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eat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Ful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 data full populates CC scope of import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 dat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xceed CC scope of translato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the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19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334120" y="551340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2041"/>
              <a:gd name="adj5" fmla="val -256805"/>
              <a:gd name="adj6" fmla="val -46592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Scope: Partial Dat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ing application not pre-populated with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 full CC scope of transl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will the mapping logic still work correctl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DEALL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gic able to import, in isolation, each within-scope completed BASE-CC!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translator provides for it, could import a lesser (but fully populated) valid sub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38280" y="35812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666880"/>
            <a:ext cx="3657600" cy="2895840"/>
          </a:xfrm>
          <a:prstGeom prst="cloudCallout">
            <a:avLst>
              <a:gd name="adj1" fmla="val -26777"/>
              <a:gd name="adj2" fmla="val 42212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560680"/>
            <a:ext cx="2514600" cy="1191240"/>
          </a:xfrm>
          <a:prstGeom prst="borderCallout2">
            <a:avLst>
              <a:gd name="adj1" fmla="val 18750"/>
              <a:gd name="adj2" fmla="val -8333"/>
              <a:gd name="adj3" fmla="val 9328"/>
              <a:gd name="adj4" fmla="val -13574"/>
              <a:gd name="adj5" fmla="val 51569"/>
              <a:gd name="adj6" fmla="val -50500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information scope of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286000" y="3276720"/>
            <a:ext cx="6019920" cy="1819080"/>
            <a:chOff x="2286000" y="3276720"/>
            <a:chExt cx="6019920" cy="1819080"/>
          </a:xfrm>
        </p:grpSpPr>
        <p:sp>
          <p:nvSpPr>
            <p:cNvPr id="204" name=""/>
            <p:cNvSpPr/>
            <p:nvPr/>
          </p:nvSpPr>
          <p:spPr>
            <a:xfrm>
              <a:off x="2286000" y="3276720"/>
              <a:ext cx="1752480" cy="17524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1320" y="4270320"/>
              <a:ext cx="2514600" cy="825480"/>
            </a:xfrm>
            <a:prstGeom prst="borderCallout2">
              <a:avLst>
                <a:gd name="adj1" fmla="val 18750"/>
                <a:gd name="adj2" fmla="val -8333"/>
                <a:gd name="adj3" fmla="val 13282"/>
                <a:gd name="adj4" fmla="val -17740"/>
                <a:gd name="adj5" fmla="val -24930"/>
                <a:gd name="adj6" fmla="val -69180"/>
              </a:avLst>
            </a:prstGeom>
            <a:solidFill>
              <a:srgbClr val="ffffff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Full CC scope of import translato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971800" y="3581280"/>
            <a:ext cx="9907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62320" y="3581280"/>
            <a:ext cx="990360" cy="990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3733920"/>
            <a:ext cx="1295280" cy="129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038480"/>
            <a:ext cx="914400" cy="914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5715000"/>
            <a:ext cx="26668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8810"/>
              <a:gd name="adj5" fmla="val -356648"/>
              <a:gd name="adj6" fmla="val -30287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sser valid subs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05520" y="1752480"/>
            <a:ext cx="3124080" cy="459720"/>
          </a:xfrm>
          <a:prstGeom prst="borderCallout2">
            <a:avLst>
              <a:gd name="adj1" fmla="val 18750"/>
              <a:gd name="adj2" fmla="val -8333"/>
              <a:gd name="adj3" fmla="val 23078"/>
              <a:gd name="adj4" fmla="val -15194"/>
              <a:gd name="adj5" fmla="val 393347"/>
              <a:gd name="adj6" fmla="val -61226"/>
            </a:avLst>
          </a:prstGeom>
          <a:solidFill>
            <a:srgbClr val="ffffff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pulated valid sub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and Impor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x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CC scope of translat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ss data CIS data ignor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er valid subset (requested and/or partial da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pplication must be able to store and manipulate any such subs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Beta Documentation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E-CCs Explained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for each non-abstract entity in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entities are not instanc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ASE-CC for each base-entity built from the EXPRESS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it references direc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-in: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ntities that must point a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11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licit inverse relationships with no zero cardi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eritance requires relationships to any super-types to be consi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CCs where generated automatically from the 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105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rules whe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nside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“valid subset” results from recursively pulling-in entities until the list is s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5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ase entity may have many valid subse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4267080"/>
            <a:ext cx="2286000" cy="2116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1981080"/>
            <a:ext cx="2286000" cy="21160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tex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400800" y="4876920"/>
            <a:ext cx="1987200" cy="1014120"/>
            <a:chOff x="6400800" y="4876920"/>
            <a:chExt cx="1987200" cy="1014120"/>
          </a:xfrm>
        </p:grpSpPr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640080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0116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89880" y="2362320"/>
            <a:ext cx="1400760" cy="1236600"/>
            <a:chOff x="6689880" y="2362320"/>
            <a:chExt cx="1400760" cy="123660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689880" y="2362320"/>
              <a:ext cx="13712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69060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ntity Pull-in Rul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341520" y="2460600"/>
            <a:ext cx="2633760" cy="1747800"/>
            <a:chOff x="3341520" y="2460600"/>
            <a:chExt cx="2633760" cy="1747800"/>
          </a:xfrm>
        </p:grpSpPr>
        <p:sp>
          <p:nvSpPr>
            <p:cNvPr id="227" name=""/>
            <p:cNvSpPr/>
            <p:nvPr/>
          </p:nvSpPr>
          <p:spPr>
            <a:xfrm>
              <a:off x="4067280" y="2460600"/>
              <a:ext cx="954000" cy="47772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1280" y="3732120"/>
              <a:ext cx="95400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545000" y="293832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341520" y="3254040"/>
              <a:ext cx="160560" cy="477720"/>
              <a:chOff x="3341520" y="3254040"/>
              <a:chExt cx="160560" cy="47772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3431520" y="325404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41520" y="355284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98920" y="3279600"/>
              <a:ext cx="158760" cy="478080"/>
              <a:chOff x="5398920" y="3279600"/>
              <a:chExt cx="158760" cy="478080"/>
            </a:xfrm>
          </p:grpSpPr>
          <p:sp>
            <p:nvSpPr>
              <p:cNvPr id="234" name=""/>
              <p:cNvSpPr/>
              <p:nvPr/>
            </p:nvSpPr>
            <p:spPr>
              <a:xfrm flipV="1">
                <a:off x="5488200" y="3279600"/>
                <a:ext cx="0" cy="4780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8920" y="357804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432240" y="325440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846600" y="5002200"/>
            <a:ext cx="95256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935000" y="3732120"/>
            <a:ext cx="2451240" cy="1746360"/>
            <a:chOff x="1935000" y="3732120"/>
            <a:chExt cx="2451240" cy="1746360"/>
          </a:xfrm>
        </p:grpSpPr>
        <p:sp>
          <p:nvSpPr>
            <p:cNvPr id="239" name=""/>
            <p:cNvSpPr/>
            <p:nvPr/>
          </p:nvSpPr>
          <p:spPr>
            <a:xfrm>
              <a:off x="2955960" y="3732120"/>
              <a:ext cx="950760" cy="47628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432240" y="4208040"/>
              <a:ext cx="0" cy="3193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5000" y="5002200"/>
              <a:ext cx="954360" cy="4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226040" y="4527720"/>
              <a:ext cx="160200" cy="474480"/>
              <a:chOff x="4226040" y="4527720"/>
              <a:chExt cx="160200" cy="474480"/>
            </a:xfrm>
          </p:grpSpPr>
          <p:sp>
            <p:nvSpPr>
              <p:cNvPr id="243" name=""/>
              <p:cNvSpPr/>
              <p:nvPr/>
            </p:nvSpPr>
            <p:spPr>
              <a:xfrm flipV="1">
                <a:off x="431604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226040" y="4824000"/>
                <a:ext cx="16020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2317680" y="4527720"/>
              <a:ext cx="160560" cy="474480"/>
              <a:chOff x="2317680" y="4527720"/>
              <a:chExt cx="160560" cy="47448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2407680" y="4527720"/>
                <a:ext cx="0" cy="47448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17680" y="4824000"/>
                <a:ext cx="160560" cy="1580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H="1">
              <a:off x="2411280" y="4527720"/>
              <a:ext cx="18878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804920" y="5010120"/>
            <a:ext cx="2224440" cy="476280"/>
            <a:chOff x="4804920" y="5010120"/>
            <a:chExt cx="2224440" cy="476280"/>
          </a:xfrm>
        </p:grpSpPr>
        <p:sp>
          <p:nvSpPr>
            <p:cNvPr id="250" name=""/>
            <p:cNvSpPr/>
            <p:nvPr/>
          </p:nvSpPr>
          <p:spPr>
            <a:xfrm>
              <a:off x="6078600" y="501012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804920" y="5254560"/>
              <a:ext cx="12733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18040" y="5170320"/>
              <a:ext cx="16056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828800" y="2438280"/>
            <a:ext cx="2209680" cy="527040"/>
            <a:chOff x="1828800" y="2438280"/>
            <a:chExt cx="2209680" cy="527040"/>
          </a:xfrm>
        </p:grpSpPr>
        <p:sp>
          <p:nvSpPr>
            <p:cNvPr id="254" name=""/>
            <p:cNvSpPr/>
            <p:nvPr/>
          </p:nvSpPr>
          <p:spPr>
            <a:xfrm flipH="1">
              <a:off x="2765520" y="2730600"/>
              <a:ext cx="1272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79720" y="2644920"/>
              <a:ext cx="158760" cy="1587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28800" y="2490840"/>
              <a:ext cx="954000" cy="474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25520" y="24382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549440" y="1943280"/>
            <a:ext cx="5753160" cy="4132080"/>
            <a:chOff x="1549440" y="1943280"/>
            <a:chExt cx="5753160" cy="4132080"/>
          </a:xfrm>
        </p:grpSpPr>
        <p:sp>
          <p:nvSpPr>
            <p:cNvPr id="259" name=""/>
            <p:cNvSpPr/>
            <p:nvPr/>
          </p:nvSpPr>
          <p:spPr>
            <a:xfrm>
              <a:off x="1549440" y="194328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8680" y="4508640"/>
              <a:ext cx="1523880" cy="1541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78360" y="4533840"/>
              <a:ext cx="152424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 reference to an entity that is external to that BASE-C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ise due to “dangling” multiple-choice references 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ABSTRACT super-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ELECT 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5105520" y="3297240"/>
            <a:ext cx="3019320" cy="1270080"/>
            <a:chOff x="5105520" y="3297240"/>
            <a:chExt cx="3019320" cy="1270080"/>
          </a:xfrm>
        </p:grpSpPr>
        <p:sp>
          <p:nvSpPr>
            <p:cNvPr id="269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94560" y="3297240"/>
              <a:ext cx="0" cy="316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5491080" y="3612960"/>
              <a:ext cx="160560" cy="477720"/>
              <a:chOff x="5491080" y="3612960"/>
              <a:chExt cx="160560" cy="477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5581080" y="36129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91080" y="3911760"/>
                <a:ext cx="1605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7548480" y="3638160"/>
              <a:ext cx="158760" cy="477720"/>
              <a:chOff x="7548480" y="3638160"/>
              <a:chExt cx="158760" cy="477720"/>
            </a:xfrm>
          </p:grpSpPr>
          <p:sp>
            <p:nvSpPr>
              <p:cNvPr id="275" name=""/>
              <p:cNvSpPr/>
              <p:nvPr/>
            </p:nvSpPr>
            <p:spPr>
              <a:xfrm flipV="1">
                <a:off x="7637760" y="3638160"/>
                <a:ext cx="0" cy="477720"/>
              </a:xfrm>
              <a:prstGeom prst="line">
                <a:avLst/>
              </a:prstGeom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548480" y="3936960"/>
                <a:ext cx="158760" cy="1591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581800" y="3613320"/>
              <a:ext cx="20635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280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283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2286000"/>
            <a:ext cx="4876560" cy="2824200"/>
            <a:chOff x="1447920" y="2286000"/>
            <a:chExt cx="4876560" cy="2824200"/>
          </a:xfrm>
        </p:grpSpPr>
        <p:sp>
          <p:nvSpPr>
            <p:cNvPr id="288" name=""/>
            <p:cNvSpPr/>
            <p:nvPr/>
          </p:nvSpPr>
          <p:spPr>
            <a:xfrm>
              <a:off x="144792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Via ABSTRACT supertype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70840" y="4091040"/>
            <a:ext cx="95400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694560" y="3297240"/>
            <a:ext cx="0" cy="31608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3612960"/>
            <a:ext cx="160560" cy="477720"/>
            <a:chOff x="5491080" y="3612960"/>
            <a:chExt cx="160560" cy="477720"/>
          </a:xfrm>
        </p:grpSpPr>
        <p:sp>
          <p:nvSpPr>
            <p:cNvPr id="296" name=""/>
            <p:cNvSpPr/>
            <p:nvPr/>
          </p:nvSpPr>
          <p:spPr>
            <a:xfrm flipV="1">
              <a:off x="5581080" y="36129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1080" y="3911760"/>
              <a:ext cx="1605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7548480" y="3638160"/>
            <a:ext cx="158760" cy="477720"/>
            <a:chOff x="7548480" y="3638160"/>
            <a:chExt cx="158760" cy="477720"/>
          </a:xfrm>
        </p:grpSpPr>
        <p:sp>
          <p:nvSpPr>
            <p:cNvPr id="299" name=""/>
            <p:cNvSpPr/>
            <p:nvPr/>
          </p:nvSpPr>
          <p:spPr>
            <a:xfrm flipV="1">
              <a:off x="7637760" y="3638160"/>
              <a:ext cx="0" cy="477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8480" y="3936960"/>
              <a:ext cx="158760" cy="1591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581800" y="3613320"/>
            <a:ext cx="206352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5520" y="4091040"/>
            <a:ext cx="950760" cy="476280"/>
          </a:xfrm>
          <a:prstGeom prst="rect">
            <a:avLst/>
          </a:prstGeom>
          <a:solidFill>
            <a:srgbClr val="ffff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666520" y="2819520"/>
            <a:ext cx="4504320" cy="477720"/>
            <a:chOff x="2666520" y="2819520"/>
            <a:chExt cx="4504320" cy="477720"/>
          </a:xfrm>
        </p:grpSpPr>
        <p:grpSp>
          <p:nvGrpSpPr>
            <p:cNvPr id="304" name=""/>
            <p:cNvGrpSpPr/>
            <p:nvPr/>
          </p:nvGrpSpPr>
          <p:grpSpPr>
            <a:xfrm>
              <a:off x="2666520" y="2819520"/>
              <a:ext cx="4504320" cy="477720"/>
              <a:chOff x="2666520" y="2819520"/>
              <a:chExt cx="4504320" cy="477720"/>
            </a:xfrm>
          </p:grpSpPr>
          <p:sp>
            <p:nvSpPr>
              <p:cNvPr id="305" name=""/>
              <p:cNvSpPr/>
              <p:nvPr/>
            </p:nvSpPr>
            <p:spPr>
              <a:xfrm>
                <a:off x="6019920" y="2971800"/>
                <a:ext cx="160200" cy="15732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666520" y="2819520"/>
                <a:ext cx="4504320" cy="477720"/>
                <a:chOff x="2666520" y="2819520"/>
                <a:chExt cx="4504320" cy="477720"/>
              </a:xfrm>
            </p:grpSpPr>
            <p:sp>
              <p:nvSpPr>
                <p:cNvPr id="307" name=""/>
                <p:cNvSpPr/>
                <p:nvPr/>
              </p:nvSpPr>
              <p:spPr>
                <a:xfrm flipH="1">
                  <a:off x="2666520" y="3048120"/>
                  <a:ext cx="3505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216480" y="2819520"/>
                  <a:ext cx="954360" cy="477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9" name=""/>
            <p:cNvSpPr/>
            <p:nvPr/>
          </p:nvSpPr>
          <p:spPr>
            <a:xfrm>
              <a:off x="6326280" y="289548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B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96160" y="356868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17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19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286000"/>
            <a:ext cx="4952880" cy="2824200"/>
            <a:chOff x="1371600" y="2286000"/>
            <a:chExt cx="4952880" cy="2824200"/>
          </a:xfrm>
        </p:grpSpPr>
        <p:sp>
          <p:nvSpPr>
            <p:cNvPr id="327" name=""/>
            <p:cNvSpPr/>
            <p:nvPr/>
          </p:nvSpPr>
          <p:spPr>
            <a:xfrm>
              <a:off x="1371600" y="228600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00600" y="3568680"/>
              <a:ext cx="1523880" cy="15415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30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33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Via SELECT type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06400" y="2819520"/>
            <a:ext cx="951120" cy="476280"/>
          </a:xfrm>
          <a:prstGeom prst="rect">
            <a:avLst/>
          </a:prstGeom>
          <a:solidFill>
            <a:srgbClr val="ff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105520" y="3047760"/>
            <a:ext cx="3019320" cy="1519560"/>
            <a:chOff x="5105520" y="3047760"/>
            <a:chExt cx="3019320" cy="1519560"/>
          </a:xfrm>
        </p:grpSpPr>
        <p:sp>
          <p:nvSpPr>
            <p:cNvPr id="340" name=""/>
            <p:cNvSpPr/>
            <p:nvPr/>
          </p:nvSpPr>
          <p:spPr>
            <a:xfrm>
              <a:off x="7170840" y="4091040"/>
              <a:ext cx="95400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34120" y="3047760"/>
              <a:ext cx="2373120" cy="1068120"/>
              <a:chOff x="5334120" y="3047760"/>
              <a:chExt cx="2373120" cy="106812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5581800" y="3047760"/>
                <a:ext cx="0" cy="1042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91080" y="3911760"/>
                <a:ext cx="1605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7637400" y="3047760"/>
                <a:ext cx="0" cy="106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48480" y="3936960"/>
                <a:ext cx="158760" cy="15876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4120" y="3048120"/>
                <a:ext cx="22860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105520" y="4091040"/>
              <a:ext cx="950760" cy="476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174720" y="396252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1600" y="2286000"/>
            <a:ext cx="152388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05520" y="3568680"/>
            <a:ext cx="1524240" cy="154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66880" y="2819520"/>
            <a:ext cx="2675160" cy="477720"/>
            <a:chOff x="2666880" y="2819520"/>
            <a:chExt cx="2675160" cy="477720"/>
          </a:xfrm>
        </p:grpSpPr>
        <p:sp>
          <p:nvSpPr>
            <p:cNvPr id="352" name=""/>
            <p:cNvSpPr/>
            <p:nvPr/>
          </p:nvSpPr>
          <p:spPr>
            <a:xfrm>
              <a:off x="3657600" y="2971800"/>
              <a:ext cx="160200" cy="1573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2666880" y="3048120"/>
              <a:ext cx="10670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809880" y="2819520"/>
              <a:ext cx="1532160" cy="477720"/>
              <a:chOff x="3809880" y="2819520"/>
              <a:chExt cx="1532160" cy="477720"/>
            </a:xfrm>
          </p:grpSpPr>
          <p:sp>
            <p:nvSpPr>
              <p:cNvPr id="355" name=""/>
              <p:cNvSpPr/>
              <p:nvPr/>
            </p:nvSpPr>
            <p:spPr>
              <a:xfrm>
                <a:off x="3809880" y="2819520"/>
                <a:ext cx="1532160" cy="477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42880" y="2870280"/>
                <a:ext cx="118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ELEC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038480" y="2819520"/>
                <a:ext cx="0" cy="45720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ncomplete BASE-CC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ust be “completed” to create a valid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oices for completing them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S/2 Beta define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for satisfy dangling relationships by adding in selected     BASE-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ules derived (by hand) from the EXPRESS for each type of dangling re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ERE Ru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s-defined, BASE-CCs d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for the existence of any WHERE rules that require the co-existence of entities from different BASE-C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ome WHRE rules will require some BASE-CCs to be used in combination, effective reducing the number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ASE-C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incomplete BASE-CC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asic Concepts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borrowed from ISO10303 (STEP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gical subset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pecify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anslator 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 entities within must be supported in ful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defined in the CIS/2 docu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of each CC is derived logically from the EXPRESS sch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number of defined C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they can be used in combin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00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which CCs to u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Base Conformance Clas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/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cumentation defines 545 BASE-CC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 “based-on” a different ent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s other “included entitie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defined, each BASE-CCs is either  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Incomp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ust be “completed” prior to us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8480" y="2514600"/>
            <a:ext cx="5641920" cy="2319120"/>
            <a:chOff x="1158480" y="2514600"/>
            <a:chExt cx="5641920" cy="2319120"/>
          </a:xfrm>
        </p:grpSpPr>
        <p:cxnSp>
          <p:nvCxnSpPr>
            <p:cNvPr id="77" name=""/>
            <p:cNvCxnSpPr>
              <a:stCxn id="78" idx="2"/>
              <a:endCxn id="79" idx="0"/>
            </p:cNvCxnSpPr>
            <p:nvPr/>
          </p:nvCxnSpPr>
          <p:spPr>
            <a:xfrm rot="5400000">
              <a:off x="2448720" y="3039840"/>
              <a:ext cx="978480" cy="1296360"/>
            </a:xfrm>
            <a:prstGeom prst="bentConnector3">
              <a:avLst>
                <a:gd name="adj1" fmla="val 49981"/>
              </a:avLst>
            </a:prstGeom>
            <a:ln w="28440">
              <a:solidFill>
                <a:srgbClr val="cc0000"/>
              </a:solidFill>
              <a:miter/>
            </a:ln>
          </p:spPr>
        </p:cxnSp>
        <p:grpSp>
          <p:nvGrpSpPr>
            <p:cNvPr id="80" name=""/>
            <p:cNvGrpSpPr/>
            <p:nvPr/>
          </p:nvGrpSpPr>
          <p:grpSpPr>
            <a:xfrm>
              <a:off x="1158480" y="2514600"/>
              <a:ext cx="5641920" cy="2319120"/>
              <a:chOff x="1158480" y="2514600"/>
              <a:chExt cx="5641920" cy="2319120"/>
            </a:xfrm>
          </p:grpSpPr>
          <p:sp>
            <p:nvSpPr>
              <p:cNvPr id="78" name=""/>
              <p:cNvSpPr/>
              <p:nvPr/>
            </p:nvSpPr>
            <p:spPr>
              <a:xfrm>
                <a:off x="2453400" y="2514600"/>
                <a:ext cx="2265480" cy="642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Arial"/>
                  </a:rPr>
                  <a:t>BASE-CC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158480" y="4191120"/>
                <a:ext cx="2264040" cy="64260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00ff00"/>
                    </a:solidFill>
                    <a:latin typeface="Arial"/>
                  </a:rPr>
                  <a:t>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07320" y="4191120"/>
                <a:ext cx="2593080" cy="6426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Arial"/>
                  </a:rPr>
                  <a:t>Incomplete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78" idx="2"/>
                <a:endCxn id="81" idx="0"/>
              </p:cNvCxnSpPr>
              <p:nvPr/>
            </p:nvCxnSpPr>
            <p:spPr>
              <a:xfrm flipH="1" rot="16200000">
                <a:off x="4055400" y="2728800"/>
                <a:ext cx="978480" cy="1918440"/>
              </a:xfrm>
              <a:prstGeom prst="bentConnector3">
                <a:avLst>
                  <a:gd name="adj1" fmla="val 49981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grpSp>
        <p:nvGrpSpPr>
          <p:cNvPr id="83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84" name=""/>
            <p:cNvCxnSpPr>
              <a:stCxn id="81" idx="3"/>
              <a:endCxn id="78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85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mpleting CC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53400" y="2514600"/>
            <a:ext cx="2265480" cy="64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SE-C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8480" y="4191120"/>
            <a:ext cx="2264040" cy="6426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7320" y="4191120"/>
            <a:ext cx="259308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Incomple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7" idx="0"/>
          </p:cNvCxnSpPr>
          <p:nvPr/>
        </p:nvCxnSpPr>
        <p:spPr>
          <a:xfrm rot="5400000">
            <a:off x="2448720" y="3039840"/>
            <a:ext cx="978480" cy="129636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cxnSp>
        <p:nvCxnSpPr>
          <p:cNvPr id="100" name=""/>
          <p:cNvCxnSpPr>
            <a:stCxn id="96" idx="2"/>
            <a:endCxn id="98" idx="0"/>
          </p:cNvCxnSpPr>
          <p:nvPr/>
        </p:nvCxnSpPr>
        <p:spPr>
          <a:xfrm flipH="1" rot="16200000">
            <a:off x="4055400" y="2728800"/>
            <a:ext cx="978480" cy="1918440"/>
          </a:xfrm>
          <a:prstGeom prst="bentConnector3">
            <a:avLst>
              <a:gd name="adj1" fmla="val 49981"/>
            </a:avLst>
          </a:prstGeom>
          <a:ln w="28440">
            <a:solidFill>
              <a:srgbClr val="cc0000"/>
            </a:solidFill>
            <a:miter/>
          </a:ln>
        </p:spPr>
      </p:cxnSp>
      <p:grpSp>
        <p:nvGrpSpPr>
          <p:cNvPr id="101" name=""/>
          <p:cNvGrpSpPr/>
          <p:nvPr/>
        </p:nvGrpSpPr>
        <p:grpSpPr>
          <a:xfrm>
            <a:off x="4747680" y="2362320"/>
            <a:ext cx="2297520" cy="2163240"/>
            <a:chOff x="4747680" y="2362320"/>
            <a:chExt cx="2297520" cy="2163240"/>
          </a:xfrm>
        </p:grpSpPr>
        <p:cxnSp>
          <p:nvCxnSpPr>
            <p:cNvPr id="102" name=""/>
            <p:cNvCxnSpPr>
              <a:stCxn id="98" idx="3"/>
              <a:endCxn id="96" idx="3"/>
            </p:cNvCxnSpPr>
            <p:nvPr/>
          </p:nvCxnSpPr>
          <p:spPr>
            <a:xfrm flipH="1" flipV="1">
              <a:off x="4747680" y="2848680"/>
              <a:ext cx="2083680" cy="1677240"/>
            </a:xfrm>
            <a:prstGeom prst="bentConnector3">
              <a:avLst>
                <a:gd name="adj1" fmla="val -10281"/>
              </a:avLst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</p:cxnSp>
        <p:sp>
          <p:nvSpPr>
            <p:cNvPr id="103" name=""/>
            <p:cNvSpPr/>
            <p:nvPr/>
          </p:nvSpPr>
          <p:spPr>
            <a:xfrm>
              <a:off x="4953240" y="2362320"/>
              <a:ext cx="194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ffff"/>
                  </a:solidFill>
                  <a:latin typeface="Times New Roman"/>
                </a:rPr>
                <a:t>Completed_b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4197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486400"/>
            <a:ext cx="838080" cy="83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1814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541008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5257800"/>
            <a:ext cx="990720" cy="990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5410080"/>
            <a:ext cx="152280" cy="152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228600"/>
            <a:ext cx="6858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dcterms:modified xsi:type="dcterms:W3CDTF">1999-06-23T00:35:22Z</dcterms:modified>
  <cp:revision>35</cp:revision>
  <dc:subject/>
  <dc:title>AISC CIS/2  Workshop #I</dc:title>
</cp:coreProperties>
</file>